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317-38CC-403B-BC8E-5EB7F87F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C24-8DDC-41C0-A4FB-B4F34A96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518-BF17-4AA6-BA41-27252827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835-A7F9-40B7-A0A7-A928FCB6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1F0-5AF5-42C4-8934-100A0718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384-9038-4BC9-99F0-77A26D43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7C8-70E3-49D5-98F3-F6CEA86D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2ED-AA21-4E63-B80D-3D2FC285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1EC-7DF3-4516-BA5C-79B2BD3B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079-55EA-4E9F-94AA-91D62476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6A8-EC31-4D24-9483-F2D46AA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458-8731-4E90-841B-26C1BCCB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3079-4BD4-4758-B9FA-0ACB6FE7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Hire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us Change Protocol - including new hi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a personnel need is identified, please contact HR/Admn to begin a candidate sear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R will confirm your requirements for the position(s) place an ad (if necessary) and if you want, screen the candidates and provide our top picks based on your criteri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be aware, just because an ad is placed does no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ante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qual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andidates will a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you have identified the candidates you want to interview, HR/Admn can set up interview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f you choose to set up interviews on your own HR/Admn must also meet with the candidate and conduct a character/fit interview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you and HR/Admn have selected your most desirable candidates, the candidate(s) fill out an OTP/MSPA/SSI Application and Background Check Release Form (see HR/Admn for the most up to date documents).  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background checks have been completed, reviewed and approved, HR/Admn will make an offer to the candidate. (Sample includ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offers will be made without a completed background che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the candidate accepts the off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iring supervis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lls out the include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 Or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bmits it to HR/Adm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R/Admn will submit the work order to all appropriate departm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ring supervis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lls out the include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nel Action Noti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The P.A.N. must be signed by the hiring supervisor and the departmental manager and submitted to HR/Adm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whenever there is a change of status - New Hire, Termination, Salary Increase, etc, a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ersonnel Action Notic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st be filled out and submitted to HR/Admn.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on changes or salary increase will NOT be processed without a signed Personnel Action Not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/Admn will send an offer letter to the new 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6:35:33Z</dcterms:created>
  <dc:creator>russell</dc:creator>
  <dc:description/>
  <dc:language>en-US</dc:language>
  <cp:lastModifiedBy>Russell Davis</cp:lastModifiedBy>
  <dcterms:modified xsi:type="dcterms:W3CDTF">2016-04-26T03:00:02Z</dcterms:modified>
  <cp:revision>2</cp:revision>
  <dc:subject/>
  <dc:title>New Hire Procedures</dc:title>
</cp:coreProperties>
</file>